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066-AA85-485B-8EC5-1541402D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31B-79AE-4DCB-A75E-CAB0A281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857-6574-40E8-BB67-4A59EC7C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5F0-6D6D-4888-8930-331A1FF3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0302-56D7-40B5-B290-8F1081A5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287B-AE79-4B1E-9904-862E6581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30BA-D929-4880-84C3-3C19077C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DF23-E6D3-4D71-9E91-8B4888C2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9CEE-0763-4808-8EC2-DE8F6581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6104-A4F3-424C-A7F4-AE4B9471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86E2-BC5B-4F82-BFB4-E0AD73F3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254-2B44-447A-81BA-1497DDE3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42D5-52FB-47D8-9EDC-524333A6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7C54-8350-4CF5-A063-8E4420AB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F98A-7298-4139-AF03-CA4ED604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A12E-D2F1-42B3-912D-5D2C58B3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F10B-06B4-4930-997D-0859FB0F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C38-664F-41E7-9F5B-C2295DAA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090-E063-42AE-AAC3-C806BC23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AEB-74F3-411A-8DCA-FD165833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EDE-3987-43CF-8000-4BB018EC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9D6-A725-4E13-955A-7671EA45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2B3-A7F8-4CA9-828D-C772BF66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A27-0E5F-43C3-8517-983FE1B1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0210-C0EF-4007-8883-CDE41B5128F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0A13-A2B4-4AA7-9404-DEDED21B88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01D5-A768-4E82-900D-0F73CAC8DDD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990B-F8A9-4317-9A20-1E55BC8465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15328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809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. Kezunovic, G. Huang, T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. Grady, S. Santoso, UT Aus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J. Lee, UT Arling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, August 11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5867280"/>
            <a:ext cx="457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宋体"/>
              </a:rPr>
              <a:t>©2006 Mladen Kezunovic. All rights 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9720" y="503280"/>
            <a:ext cx="806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  <a:ea typeface="宋体"/>
              </a:rPr>
              <a:t>Use of synchronized sampling in substations and system-wide applic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57200" y="990720"/>
            <a:ext cx="8305920" cy="5562360"/>
            <a:chOff x="457200" y="990720"/>
            <a:chExt cx="8305920" cy="5562360"/>
          </a:xfrm>
        </p:grpSpPr>
        <p:grpSp>
          <p:nvGrpSpPr>
            <p:cNvPr id="304" name=""/>
            <p:cNvGrpSpPr/>
            <p:nvPr/>
          </p:nvGrpSpPr>
          <p:grpSpPr>
            <a:xfrm>
              <a:off x="457200" y="1066680"/>
              <a:ext cx="2971440" cy="609840"/>
              <a:chOff x="457200" y="1066680"/>
              <a:chExt cx="2971440" cy="609840"/>
            </a:xfrm>
          </p:grpSpPr>
          <p:sp>
            <p:nvSpPr>
              <p:cNvPr id="305" name=""/>
              <p:cNvSpPr/>
              <p:nvPr/>
            </p:nvSpPr>
            <p:spPr>
              <a:xfrm>
                <a:off x="531360" y="1066680"/>
                <a:ext cx="289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Email, Fax, Hosting, WWW, Pager Notific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7200" y="1066680"/>
                <a:ext cx="2897280" cy="609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038480" y="990720"/>
              <a:ext cx="952560" cy="609480"/>
              <a:chOff x="4038480" y="990720"/>
              <a:chExt cx="952560" cy="60948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4038480" y="990720"/>
                <a:ext cx="952560" cy="609480"/>
                <a:chOff x="4038480" y="990720"/>
                <a:chExt cx="95256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038480" y="1058400"/>
                  <a:ext cx="8841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38480" y="990720"/>
                  <a:ext cx="952560" cy="6094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4106520" y="990720"/>
                <a:ext cx="865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ntranet Interne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638680" y="990720"/>
              <a:ext cx="2362320" cy="609480"/>
              <a:chOff x="5638680" y="990720"/>
              <a:chExt cx="2362320" cy="609480"/>
            </a:xfrm>
          </p:grpSpPr>
          <p:sp>
            <p:nvSpPr>
              <p:cNvPr id="313" name=""/>
              <p:cNvSpPr/>
              <p:nvPr/>
            </p:nvSpPr>
            <p:spPr>
              <a:xfrm>
                <a:off x="5638680" y="990720"/>
                <a:ext cx="2362320" cy="60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Wide-area network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(hubs, routers, gateways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8680" y="990720"/>
                <a:ext cx="2362320" cy="609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990720" y="2057400"/>
              <a:ext cx="1371600" cy="580680"/>
              <a:chOff x="990720" y="2057400"/>
              <a:chExt cx="1371600" cy="580680"/>
            </a:xfrm>
          </p:grpSpPr>
          <p:sp>
            <p:nvSpPr>
              <p:cNvPr id="316" name=""/>
              <p:cNvSpPr/>
              <p:nvPr/>
            </p:nvSpPr>
            <p:spPr>
              <a:xfrm>
                <a:off x="990720" y="2057400"/>
                <a:ext cx="1371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System wide analysi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90720" y="205740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543480" y="2514600"/>
              <a:ext cx="2057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809880" y="2057400"/>
              <a:ext cx="1524240" cy="580680"/>
              <a:chOff x="3809880" y="2057400"/>
              <a:chExt cx="1524240" cy="580680"/>
            </a:xfrm>
          </p:grpSpPr>
          <p:sp>
            <p:nvSpPr>
              <p:cNvPr id="320" name=""/>
              <p:cNvSpPr/>
              <p:nvPr/>
            </p:nvSpPr>
            <p:spPr>
              <a:xfrm>
                <a:off x="3809880" y="2057400"/>
                <a:ext cx="1524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Mobile Agent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9880" y="2057400"/>
                <a:ext cx="152424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1981080"/>
              <a:ext cx="1447560" cy="580680"/>
              <a:chOff x="6400800" y="1981080"/>
              <a:chExt cx="1447560" cy="580680"/>
            </a:xfrm>
          </p:grpSpPr>
          <p:sp>
            <p:nvSpPr>
              <p:cNvPr id="323" name=""/>
              <p:cNvSpPr/>
              <p:nvPr/>
            </p:nvSpPr>
            <p:spPr>
              <a:xfrm>
                <a:off x="6400800" y="1981080"/>
                <a:ext cx="1447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System wide contro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1981080"/>
                <a:ext cx="144756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733920" y="284796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OMTRADE IEC 6185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181480" y="3657600"/>
              <a:ext cx="3200400" cy="2547000"/>
              <a:chOff x="5181480" y="3657600"/>
              <a:chExt cx="3200400" cy="254700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5181480" y="3657600"/>
                <a:ext cx="3200400" cy="337320"/>
                <a:chOff x="5181480" y="3657600"/>
                <a:chExt cx="3200400" cy="3373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181480" y="3657600"/>
                  <a:ext cx="3200400" cy="337320"/>
                </a:xfrm>
                <a:prstGeom prst="rect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ubstation Analysis and Control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257800" y="3657600"/>
                  <a:ext cx="3047760" cy="3049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7162920" y="5334120"/>
                <a:ext cx="838080" cy="337320"/>
                <a:chOff x="7162920" y="5334120"/>
                <a:chExt cx="838080" cy="3373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23924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162920" y="53341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RT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562720" y="5334120"/>
                <a:ext cx="838080" cy="337320"/>
                <a:chOff x="5562720" y="5334120"/>
                <a:chExt cx="838080" cy="3373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63904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562720" y="53341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P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162920" y="4876920"/>
                <a:ext cx="838080" cy="337320"/>
                <a:chOff x="7162920" y="4876920"/>
                <a:chExt cx="838080" cy="3373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23924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162920" y="48769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562720" y="4876920"/>
                <a:ext cx="838080" cy="337320"/>
                <a:chOff x="5562720" y="4876920"/>
                <a:chExt cx="838080" cy="3373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63904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562720" y="48769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B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162920" y="4419720"/>
                <a:ext cx="838080" cy="337320"/>
                <a:chOff x="7162920" y="4419720"/>
                <a:chExt cx="838080" cy="3373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723924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162920" y="44197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PM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562720" y="4419720"/>
                <a:ext cx="838080" cy="337320"/>
                <a:chOff x="5562720" y="4419720"/>
                <a:chExt cx="838080" cy="3373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63904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562720" y="44197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F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324480" y="5791320"/>
                <a:ext cx="990360" cy="413280"/>
                <a:chOff x="6324480" y="5791320"/>
                <a:chExt cx="990360" cy="4132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324480" y="5791320"/>
                  <a:ext cx="99036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400440" y="5867280"/>
                  <a:ext cx="914400" cy="3373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GP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762120" y="3657600"/>
              <a:ext cx="3200400" cy="2547000"/>
              <a:chOff x="762120" y="3657600"/>
              <a:chExt cx="3200400" cy="2547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762120" y="3657600"/>
                <a:ext cx="3200400" cy="337320"/>
                <a:chOff x="762120" y="3657600"/>
                <a:chExt cx="3200400" cy="3373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762120" y="3657600"/>
                  <a:ext cx="3200400" cy="337320"/>
                </a:xfrm>
                <a:prstGeom prst="rect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ubstation Analysis and Control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38440" y="3657600"/>
                  <a:ext cx="3047760" cy="3049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1066680" y="4419720"/>
                <a:ext cx="838080" cy="337320"/>
                <a:chOff x="1066680" y="4419720"/>
                <a:chExt cx="838080" cy="3373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114300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66680" y="44197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F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66880" y="5334120"/>
                <a:ext cx="838080" cy="337320"/>
                <a:chOff x="2666880" y="5334120"/>
                <a:chExt cx="838080" cy="3373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74320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66880" y="53341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RT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666880" y="4876920"/>
                <a:ext cx="838080" cy="337320"/>
                <a:chOff x="2666880" y="4876920"/>
                <a:chExt cx="838080" cy="3373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74320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666880" y="48769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666880" y="4419720"/>
                <a:ext cx="838080" cy="337320"/>
                <a:chOff x="2666880" y="4419720"/>
                <a:chExt cx="838080" cy="3373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74320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666880" y="44197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PM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066680" y="5334120"/>
                <a:ext cx="838080" cy="337320"/>
                <a:chOff x="1066680" y="5334120"/>
                <a:chExt cx="838080" cy="3373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14300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066680" y="53341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P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066680" y="4876920"/>
                <a:ext cx="838080" cy="337320"/>
                <a:chOff x="1066680" y="4876920"/>
                <a:chExt cx="838080" cy="3373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14300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066680" y="48769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B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1752480" y="5791320"/>
                <a:ext cx="990360" cy="413280"/>
                <a:chOff x="1752480" y="5791320"/>
                <a:chExt cx="990360" cy="4132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1752480" y="5791320"/>
                  <a:ext cx="99036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28440" y="5867280"/>
                  <a:ext cx="914400" cy="3373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GP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2286000" y="3962520"/>
                <a:ext cx="0" cy="1828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28800" y="45720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828800" y="50292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28800" y="54864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4800600" y="3429000"/>
              <a:ext cx="3962520" cy="31240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2320" y="22860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228600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29000" y="1600200"/>
              <a:ext cx="5335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52680" y="1676520"/>
              <a:ext cx="5335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4495680" y="1600200"/>
              <a:ext cx="75960" cy="457200"/>
              <a:chOff x="4495680" y="1600200"/>
              <a:chExt cx="75960" cy="457200"/>
            </a:xfrm>
          </p:grpSpPr>
          <p:sp>
            <p:nvSpPr>
              <p:cNvPr id="386" name=""/>
              <p:cNvSpPr/>
              <p:nvPr/>
            </p:nvSpPr>
            <p:spPr>
              <a:xfrm>
                <a:off x="4571640" y="16002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95680" y="16002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flipH="1">
              <a:off x="5257800" y="1600200"/>
              <a:ext cx="83808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029200" y="1600200"/>
              <a:ext cx="83808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3200400" y="2895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638680" y="2895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00400" y="28954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24280" y="28954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114800" y="2590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734000" y="2590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" y="3429000"/>
              <a:ext cx="3962520" cy="31240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81680" y="3962520"/>
              <a:ext cx="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24480" y="457200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24480" y="502920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24480" y="548640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C49-E10F-4D4A-8B9F-1657ECC3B4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cope of Work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 #1: Development of New Field Equipment (CB Monitor, field test s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#2: Deployment of new applications (substations, control Center,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RC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 #3: Exploration of new services (Calibration Lab and Economic study of benefi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9DB-ECC5-4B60-ACE9-C30B72FCDB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9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duc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8720" y="1634760"/>
            <a:ext cx="85359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ircuit Breaker Monitor (CBM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1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BM analysis (CBMA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FR analysis (DFRA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PR analysis (DPRA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tegrated substation analysis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C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Equip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ertification and calibration lab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3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ield test equipment for GPS-enabled IED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 #1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ADA-47F7-4AD9-9AEC-34E6B23158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duc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Cen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ault location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larm Processor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Voltage Security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te Estimator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odel Verification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of Economic Benefits,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Task#3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E8B-6304-466E-B79B-6F2AE33DFF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60240" y="1676160"/>
            <a:ext cx="76456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Automated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CD7-1B49-41B2-8D60-4ACD259A8F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5240" y="549720"/>
            <a:ext cx="8534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bstation applications 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23924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C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CBMA, DPRA, DF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ed testing in TAMU l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ed client-serv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field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D88-2130-43BC-92EB-BB7C6CE759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49360" y="1351080"/>
            <a:ext cx="8190000" cy="5110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5240" y="329040"/>
            <a:ext cx="853416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bstation Application  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Overall Architectur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7DF-E8F6-49B2-9804-5731023670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5240" y="329040"/>
            <a:ext cx="853416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ED connections  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eld Setup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433520" y="1817640"/>
            <a:ext cx="6276960" cy="40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6C0-09D0-4652-AF14-E958C7CAA4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8E7-8E0C-4B75-A36A-F1586A36EB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799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RCOT Analysis Applica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55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Synchronized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larm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oltag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tate Estim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odel Ver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Interfaces for op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B76-D512-42AC-B1CA-C793879347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698-3ACB-46C3-8394-12939D9BF8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77B-E598-4112-82A6-230160B919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ynchronized sampling util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dvantage of synchronized samples coming from variety of IEDs (DFRs, DPRs, CBMs,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extracted features from the measured data (phasors, switching times, parame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lated features using GPS-precision time-st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9E6-DB81-418B-9423-DD7F427920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9DB-11D4-4DF1-BAE2-11DC506CB7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440000" y="1606320"/>
            <a:ext cx="65404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rm Process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utomate Cause-effect analysi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rms using GPS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data from other IEDs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 to R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corporate the information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DA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ake enhancement to exi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rchive detailed information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data for reporting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373-E176-4234-B74D-7340371EAE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63360" y="1606320"/>
            <a:ext cx="763740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Sec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alculate static stability margin index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ltage regulated b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of GPS-synchronized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 IEDs located at neighboring b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Use voltage stability index for estim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margin of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ake enhancement to existing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s by introducing a wa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rchive trends for future training uses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  estim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3B0-0B7A-49F4-B42B-880CC3FCF7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0000" y="1606320"/>
            <a:ext cx="65404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Estima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Use GPS-synchronized data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EDs in addition to R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orporate Synchronized Pha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to improve accu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mprove Topology Processor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Synchronized CBM statu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ke enhancement to 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or displays with time-sta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onitor performance of the 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by comparing the results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-synchronized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73F-7932-428C-B7E7-CD5322F12C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0800" y="1606320"/>
            <a:ext cx="76582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Ver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GPS-Synchronized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other IEDs in addition to R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mpare system responses (measu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ainst simulations (using mod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easure dynamic responses (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oads) and estimate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ake enhancement to existing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s by adding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pdate the models “Continuous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630-E3E9-4007-8A6E-9C24E6B755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nef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ility of ERCO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aging R&amp;D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s development to meet ERCOT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413-4FAD-4649-A65F-88A2C4A606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A45-1437-4654-89F8-46FBB81003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TF Applic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8724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3, 2006: CCET Board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3, 2006: TO’s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11, 2006: ROS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???, 2006: CCET Board Approval of the commercializ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???, 2006: ERCOT Board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27, 2006: ETF Application Dead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/Dec 2006: ETF award d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uary 2007: start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D03-B3E2-477E-9AEF-A66A302D2D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CET and TE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E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ormed in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unded by members: TXU, CNP, AEP-Texas, Aus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, Freescale, National Instr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ocused on commercialization 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tate Agency managed by Texas A&amp;M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eader of a consortium of universities (TxC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erested in working with CCET on development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olutions (Synchronized Sampling Proj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627960"/>
            <a:ext cx="32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imes New Roman"/>
                <a:ea typeface="宋体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4B2-B34B-46B4-8B1C-8C51B577E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E59-F1FC-4AF9-979B-648B01F032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9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substation developments will be completed in FY2006 and demonstrated in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utility in FY2006 will be CNP (two substations) with a possible extension to AEP-Texas and TXU in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ERCOT applications will be initiated in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F support will bring match-funding for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match-funding will come from EPRI, DOE and ERCOT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(pending budget approv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TxCEE universities will be involved in development; TEES will be the Lead instit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ization plan will be out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4D4-69F1-4FCD-B7F0-28EDB4C120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6640560"/>
            <a:ext cx="330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5AC-B61A-4D3B-8689-AB852BC0B6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cope of Work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new concept of data integration and informatio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e the use of synchronized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products to facilitate the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e the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a commercialization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A83-29A6-4254-8A8C-CC520D1030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Main Ide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31920" y="2193840"/>
            <a:ext cx="6845400" cy="4009320"/>
            <a:chOff x="1231920" y="2193840"/>
            <a:chExt cx="6845400" cy="4009320"/>
          </a:xfrm>
        </p:grpSpPr>
        <p:sp>
          <p:nvSpPr>
            <p:cNvPr id="101" name=""/>
            <p:cNvSpPr/>
            <p:nvPr/>
          </p:nvSpPr>
          <p:spPr>
            <a:xfrm>
              <a:off x="5702400" y="3100320"/>
              <a:ext cx="237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ansmission Li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90840" y="2193840"/>
              <a:ext cx="0" cy="2197080"/>
            </a:xfrm>
            <a:prstGeom prst="line">
              <a:avLst/>
            </a:prstGeom>
            <a:ln w="158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84600" y="2849400"/>
              <a:ext cx="308160" cy="2858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90840" y="3552840"/>
              <a:ext cx="284472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0480" y="3552840"/>
              <a:ext cx="258156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40320" y="3552840"/>
              <a:ext cx="0" cy="5094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84800" y="4075200"/>
              <a:ext cx="3222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84800" y="4284720"/>
              <a:ext cx="3222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0320" y="4284720"/>
              <a:ext cx="0" cy="146196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0480" y="5743440"/>
              <a:ext cx="1239840" cy="324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84600" y="3762360"/>
              <a:ext cx="0" cy="5554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95720" y="3773520"/>
              <a:ext cx="0" cy="54936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20800" y="3552840"/>
              <a:ext cx="0" cy="9478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8640" y="3552840"/>
              <a:ext cx="0" cy="11970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98640" y="4749840"/>
              <a:ext cx="237492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1920" y="2895480"/>
              <a:ext cx="205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urren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ansform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79440" y="4390920"/>
              <a:ext cx="73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898640" y="3449520"/>
              <a:ext cx="721800" cy="208080"/>
              <a:chOff x="1898640" y="3449520"/>
              <a:chExt cx="721800" cy="208080"/>
            </a:xfrm>
          </p:grpSpPr>
          <p:sp>
            <p:nvSpPr>
              <p:cNvPr id="119" name=""/>
              <p:cNvSpPr/>
              <p:nvPr/>
            </p:nvSpPr>
            <p:spPr>
              <a:xfrm>
                <a:off x="189864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8376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2236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6060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4552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819520" y="3505320"/>
              <a:ext cx="118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Contac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“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A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9160" y="3511440"/>
              <a:ext cx="89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Cont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“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B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24480" y="3873600"/>
              <a:ext cx="1506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apacitiv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Volt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ansform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32360" y="4003560"/>
              <a:ext cx="5364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35160" y="4378320"/>
              <a:ext cx="204840" cy="247680"/>
            </a:xfrm>
            <a:prstGeom prst="ellipse">
              <a:avLst/>
            </a:prstGeom>
            <a:noFill/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16320" y="5892840"/>
              <a:ext cx="1960560" cy="46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8480" y="4626000"/>
              <a:ext cx="0" cy="101592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38480" y="5641920"/>
              <a:ext cx="12384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0800" y="4500720"/>
              <a:ext cx="166068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13000" y="4664160"/>
              <a:ext cx="204840" cy="249120"/>
            </a:xfrm>
            <a:prstGeom prst="ellipse">
              <a:avLst/>
            </a:prstGeom>
            <a:noFill/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16320" y="4898880"/>
              <a:ext cx="0" cy="99396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00480" y="4378320"/>
              <a:ext cx="3826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342040" y="4003560"/>
              <a:ext cx="366120" cy="1201320"/>
              <a:chOff x="5342040" y="4003560"/>
              <a:chExt cx="366120" cy="1201320"/>
            </a:xfrm>
          </p:grpSpPr>
          <p:sp>
            <p:nvSpPr>
              <p:cNvPr id="137" name=""/>
              <p:cNvSpPr/>
              <p:nvPr/>
            </p:nvSpPr>
            <p:spPr>
              <a:xfrm>
                <a:off x="5342040" y="4428360"/>
                <a:ext cx="36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ce157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36720" y="4003560"/>
                <a:ext cx="0" cy="546120"/>
              </a:xfrm>
              <a:prstGeom prst="line">
                <a:avLst/>
              </a:prstGeom>
              <a:ln w="15840">
                <a:solidFill>
                  <a:srgbClr val="9ce1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36720" y="4699080"/>
                <a:ext cx="0" cy="505800"/>
              </a:xfrm>
              <a:prstGeom prst="line">
                <a:avLst/>
              </a:prstGeom>
              <a:ln w="15840">
                <a:solidFill>
                  <a:srgbClr val="9ce1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4979880" y="5202360"/>
              <a:ext cx="4572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79880" y="5202360"/>
              <a:ext cx="0" cy="2826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95520" y="5896080"/>
              <a:ext cx="11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Curr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10160" y="5757840"/>
              <a:ext cx="91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Volt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995720" y="4003560"/>
              <a:ext cx="44136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27520" y="3757680"/>
              <a:ext cx="204840" cy="2476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410080" y="3755880"/>
              <a:ext cx="206640" cy="2476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100480" y="4626000"/>
              <a:ext cx="123984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54320" y="5194440"/>
              <a:ext cx="41292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8280" y="4351320"/>
              <a:ext cx="30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ce157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4533840"/>
              <a:ext cx="41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ce157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54320" y="4805280"/>
              <a:ext cx="0" cy="38412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3280" y="4000680"/>
              <a:ext cx="0" cy="46512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4520" y="5194440"/>
              <a:ext cx="0" cy="2934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356000" y="2193840"/>
              <a:ext cx="744480" cy="608040"/>
              <a:chOff x="4356000" y="2193840"/>
              <a:chExt cx="744480" cy="608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376880" y="2193840"/>
                <a:ext cx="723600" cy="608040"/>
              </a:xfrm>
              <a:prstGeom prst="rect">
                <a:avLst/>
              </a:prstGeom>
              <a:solidFill>
                <a:srgbClr val="ff66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56000" y="236196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Times New Roman"/>
                  </a:rPr>
                  <a:t>CB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264200" y="4303800"/>
              <a:ext cx="836280" cy="625320"/>
              <a:chOff x="4264200" y="4303800"/>
              <a:chExt cx="836280" cy="625320"/>
            </a:xfrm>
          </p:grpSpPr>
          <p:sp>
            <p:nvSpPr>
              <p:cNvPr id="158" name=""/>
              <p:cNvSpPr/>
              <p:nvPr/>
            </p:nvSpPr>
            <p:spPr>
              <a:xfrm>
                <a:off x="4273560" y="4303800"/>
                <a:ext cx="826920" cy="625320"/>
              </a:xfrm>
              <a:prstGeom prst="rect">
                <a:avLst/>
              </a:prstGeom>
              <a:solidFill>
                <a:srgbClr val="ff66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64200" y="4530600"/>
                <a:ext cx="82692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Times New Roman"/>
                  </a:rPr>
                  <a:t>DP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238640" y="5478480"/>
              <a:ext cx="1033560" cy="523800"/>
              <a:chOff x="4238640" y="5478480"/>
              <a:chExt cx="1033560" cy="523800"/>
            </a:xfrm>
          </p:grpSpPr>
          <p:sp>
            <p:nvSpPr>
              <p:cNvPr id="161" name=""/>
              <p:cNvSpPr/>
              <p:nvPr/>
            </p:nvSpPr>
            <p:spPr>
              <a:xfrm>
                <a:off x="4376880" y="5478480"/>
                <a:ext cx="723600" cy="523800"/>
              </a:xfrm>
              <a:prstGeom prst="rect">
                <a:avLst/>
              </a:prstGeom>
              <a:solidFill>
                <a:srgbClr val="ff66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38640" y="5581800"/>
                <a:ext cx="1033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Times New Roman"/>
                  </a:rPr>
                  <a:t>DF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79840" y="3238560"/>
              <a:ext cx="620640" cy="523800"/>
              <a:chOff x="4479840" y="3238560"/>
              <a:chExt cx="620640" cy="523800"/>
            </a:xfrm>
          </p:grpSpPr>
          <p:sp>
            <p:nvSpPr>
              <p:cNvPr id="164" name=""/>
              <p:cNvSpPr/>
              <p:nvPr/>
            </p:nvSpPr>
            <p:spPr>
              <a:xfrm>
                <a:off x="4481640" y="3238560"/>
                <a:ext cx="618840" cy="523800"/>
              </a:xfrm>
              <a:prstGeom prst="rect">
                <a:avLst/>
              </a:prstGeom>
              <a:solidFill>
                <a:srgbClr val="99cc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79840" y="335268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256-8B8C-4B46-A3EA-B7D0420F90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9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7200" y="1218960"/>
            <a:ext cx="8457840" cy="4654440"/>
            <a:chOff x="457200" y="1218960"/>
            <a:chExt cx="8457840" cy="4654440"/>
          </a:xfrm>
        </p:grpSpPr>
        <p:sp>
          <p:nvSpPr>
            <p:cNvPr id="168" name=""/>
            <p:cNvSpPr/>
            <p:nvPr/>
          </p:nvSpPr>
          <p:spPr>
            <a:xfrm>
              <a:off x="2625840" y="1467000"/>
              <a:ext cx="75780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F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78200" y="1467000"/>
              <a:ext cx="82548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05080" y="1483200"/>
              <a:ext cx="89748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07560" y="1483200"/>
              <a:ext cx="8935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97560" y="3584880"/>
              <a:ext cx="100260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L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7480" y="4662000"/>
              <a:ext cx="8276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17600" y="3036960"/>
              <a:ext cx="82548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07560" y="3036960"/>
              <a:ext cx="8265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19800" y="2170080"/>
              <a:ext cx="8287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22760" y="4674960"/>
              <a:ext cx="82872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F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87360" y="4699440"/>
              <a:ext cx="91116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B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34240" y="4710600"/>
              <a:ext cx="82476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P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58160" y="4699440"/>
              <a:ext cx="8683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T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88480" y="4710600"/>
              <a:ext cx="8265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O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64960" y="1848600"/>
              <a:ext cx="0" cy="2814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84640" y="3974040"/>
              <a:ext cx="0" cy="70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6640" y="3427920"/>
              <a:ext cx="0" cy="127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32720" y="2834280"/>
              <a:ext cx="6682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8040" y="4259160"/>
              <a:ext cx="6682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5920" y="3427920"/>
              <a:ext cx="0" cy="58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333320" y="4009680"/>
              <a:ext cx="731880" cy="66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70960" y="1848600"/>
              <a:ext cx="0" cy="1733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13560" y="184860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8920" y="18604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668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5572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4000" y="18604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63040" y="18604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155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352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8752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80720" y="3427920"/>
              <a:ext cx="0" cy="55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0720" y="3974040"/>
              <a:ext cx="609840" cy="72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66960" y="1872360"/>
              <a:ext cx="0" cy="282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14000" y="1872360"/>
              <a:ext cx="0" cy="29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27680" y="2561040"/>
              <a:ext cx="0" cy="474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41000" y="3427920"/>
              <a:ext cx="0" cy="127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98400" y="3427920"/>
              <a:ext cx="0" cy="52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98400" y="3950640"/>
              <a:ext cx="623520" cy="73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309640" y="1218960"/>
              <a:ext cx="0" cy="181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9640" y="1231200"/>
              <a:ext cx="233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7680" y="1231200"/>
              <a:ext cx="0" cy="24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951280" y="505476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913560" y="505476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33368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079240" y="509040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485680" y="509040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095880" y="507852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0268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24788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68204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264520" y="507852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85000" y="507852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635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433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9240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6156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728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6304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57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13560" y="3974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8240" y="39862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47360" y="39862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09720" y="39981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0128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5868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8856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5128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76720" y="343980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56600" y="2561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78640" y="2561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6720" y="2561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25760" y="2572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50040" y="5364360"/>
              <a:ext cx="4190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6160" y="5375520"/>
              <a:ext cx="4201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30640" y="537552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5120" y="538632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09640" y="5375520"/>
              <a:ext cx="4190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3680" y="5413680"/>
              <a:ext cx="417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5080" y="541368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36880" y="539928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31160" y="5399280"/>
              <a:ext cx="4201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67920" y="5413680"/>
              <a:ext cx="4201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63280" y="5411880"/>
              <a:ext cx="417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1600" y="1514520"/>
              <a:ext cx="2018520" cy="1008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LEVEL 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CENTRALIZED LO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4480" y="3119040"/>
              <a:ext cx="1965240" cy="703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LEVEL I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SUBS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4532400"/>
              <a:ext cx="1963440" cy="1008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LEVEL II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SWITCHYARD INTERF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BE7-9A56-49D5-9C6F-3497583403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ce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527120" y="3313080"/>
            <a:ext cx="6324120" cy="2950920"/>
            <a:chOff x="1527120" y="3313080"/>
            <a:chExt cx="6324120" cy="2950920"/>
          </a:xfrm>
        </p:grpSpPr>
        <p:sp>
          <p:nvSpPr>
            <p:cNvPr id="257" name=""/>
            <p:cNvSpPr/>
            <p:nvPr/>
          </p:nvSpPr>
          <p:spPr>
            <a:xfrm>
              <a:off x="176256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64280" y="5531760"/>
              <a:ext cx="687240" cy="67356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69600" y="5531760"/>
              <a:ext cx="864000" cy="67356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32080" y="5531760"/>
              <a:ext cx="11192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DP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51680" y="5531760"/>
              <a:ext cx="785520" cy="67356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53760" y="5531760"/>
              <a:ext cx="10209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BM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55280" y="5531760"/>
              <a:ext cx="76608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16040" y="5531760"/>
              <a:ext cx="9032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RT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7120" y="5531760"/>
              <a:ext cx="94248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DF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39440" y="5531760"/>
              <a:ext cx="76572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60600" y="5650560"/>
              <a:ext cx="94248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S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22880" y="5531760"/>
              <a:ext cx="72684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85360" y="5650560"/>
              <a:ext cx="10213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PLC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4636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920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280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7660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096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762560" y="3788640"/>
              <a:ext cx="5833080" cy="1148400"/>
              <a:chOff x="1762560" y="3788640"/>
              <a:chExt cx="5833080" cy="1148400"/>
            </a:xfrm>
          </p:grpSpPr>
          <p:sp>
            <p:nvSpPr>
              <p:cNvPr id="276" name=""/>
              <p:cNvSpPr/>
              <p:nvPr/>
            </p:nvSpPr>
            <p:spPr>
              <a:xfrm>
                <a:off x="1762560" y="4362840"/>
                <a:ext cx="5833080" cy="574200"/>
              </a:xfrm>
              <a:prstGeom prst="rect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Data Integr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62560" y="3788640"/>
                <a:ext cx="5833080" cy="574200"/>
              </a:xfrm>
              <a:prstGeom prst="rect">
                <a:avLst/>
              </a:prstGeom>
              <a:solidFill>
                <a:srgbClr val="008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Information Exchang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2803320" y="3313080"/>
              <a:ext cx="471240" cy="4154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2800" y="3313080"/>
              <a:ext cx="471240" cy="4154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22880" y="3313080"/>
              <a:ext cx="471240" cy="4154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67440" y="5531760"/>
              <a:ext cx="72684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29920" y="5650560"/>
              <a:ext cx="10213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Q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Met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6572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747800" y="1924200"/>
            <a:ext cx="5872320" cy="1311120"/>
          </a:xfrm>
          <a:prstGeom prst="can">
            <a:avLst>
              <a:gd name="adj" fmla="val 28125"/>
            </a:avLst>
          </a:prstGeom>
          <a:solidFill>
            <a:srgbClr val="3333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3160" y="2252520"/>
            <a:ext cx="428148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atabas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aw and pre-processed measu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System configur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9A1-6893-4A0B-A2DD-BAECBA7A2D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formation Us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015320" y="2298600"/>
          <a:ext cx="124272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5320" y="2298600"/>
                    <a:ext cx="124272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244520" y="2209680"/>
          <a:ext cx="154620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4520" y="2209680"/>
                    <a:ext cx="15462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140360" y="1973160"/>
          <a:ext cx="1371600" cy="11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197316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7"/>
          <a:srcRect l="0" t="0" r="0" b="27594"/>
          <a:stretch/>
        </p:blipFill>
        <p:spPr>
          <a:xfrm>
            <a:off x="3679920" y="3365640"/>
            <a:ext cx="2200320" cy="723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340760" y="3568680"/>
            <a:ext cx="146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Summ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92240" y="3492360"/>
            <a:ext cx="1871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Comprehens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005280" y="3772080"/>
          <a:ext cx="3549600" cy="167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5280" y="3772080"/>
                    <a:ext cx="35496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054760" y="2959200"/>
            <a:ext cx="1295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Brief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2640" y="18914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Engin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9560" y="18914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ispatc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35840" y="19677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Technici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8280" y="5435640"/>
            <a:ext cx="8610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 Black"/>
              </a:rPr>
              <a:t>Reports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can be </a:t>
            </a:r>
            <a:r>
              <a:rPr b="1" lang="en-US" sz="2000" spc="-1" strike="noStrike">
                <a:solidFill>
                  <a:srgbClr val="ff3300"/>
                </a:solidFill>
                <a:latin typeface="Arial Black"/>
              </a:rPr>
              <a:t>customized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according to the need of a particular category of users and disseminated via </a:t>
            </a:r>
            <a:r>
              <a:rPr b="1" lang="en-US" sz="2000" spc="-1" strike="noStrike">
                <a:solidFill>
                  <a:srgbClr val="66ffff"/>
                </a:solidFill>
                <a:latin typeface="Arial Black"/>
              </a:rPr>
              <a:t>fax, e-mail</a:t>
            </a:r>
            <a:r>
              <a:rPr b="1" lang="en-US" sz="2000" spc="-1" strike="noStrike">
                <a:solidFill>
                  <a:srgbClr val="00ff99"/>
                </a:solidFill>
                <a:latin typeface="Arial Black"/>
              </a:rPr>
              <a:t>, website, pager,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9EE-70BC-4C4C-9EC4-56DCD78DCA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7:49:05Z</dcterms:created>
  <dc:creator>Milos Todorovic</dc:creator>
  <dc:description/>
  <dc:language>en-US</dc:language>
  <cp:lastModifiedBy>mk</cp:lastModifiedBy>
  <dcterms:modified xsi:type="dcterms:W3CDTF">2006-08-11T03:50:11Z</dcterms:modified>
  <cp:revision>656</cp:revision>
  <dc:subject/>
  <dc:title>PowerPoint Presentation</dc:title>
</cp:coreProperties>
</file>